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21D-261E-47B0-8D6C-51A0D6D7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1BB-ADE1-447B-9738-E9BC0139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DD8-12D3-4DAB-854F-F8762885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8B7-040E-4A48-AC35-F0A7775D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F9FE-5A50-468D-A58F-6EF81A18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3E0C-830F-4592-8E95-97A3C633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E18F-62C1-48DA-91B6-FB84D82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7E94-D40D-4601-B9BF-E1565EC4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BF12-7F74-40F0-9256-84B875F6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5F2C-061B-4F8D-85D8-CF4B289C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A9BD-BD54-494C-815D-F7B4C788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FEC-8F59-499B-987D-B5BC8617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B235-1679-4E7A-893C-5A4B4B0C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0132-E36B-4D87-9C37-EC70FAC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CD54-B95D-42FD-A0D0-05E22F90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98AB-91AC-4EBD-A38C-0AE40D41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D9EF-EE86-4683-842B-4A1AA5AE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DFE-2290-47E6-8853-4A247F53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28E-30A5-401F-AD37-13E6E437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108-46E9-4510-AEF8-406ADDAA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38F-37C8-49A3-A4CE-27045C69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FA3-B1AE-4A3C-B2D8-9CDD8F1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21E-3318-4919-BFDF-92209EB8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D21-952D-423E-B261-1F206F70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4B4B-BD48-42F5-B26B-14BEC35088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F406-F18A-411A-90EA-3DF28065A7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nk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2 paragraph story that includes at least 6 gothic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 a partner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estions on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11:40Z</dcterms:created>
  <dc:creator>Angie</dc:creator>
  <dc:description/>
  <dc:language>en-US</dc:language>
  <cp:lastModifiedBy>Angie</cp:lastModifiedBy>
  <dcterms:modified xsi:type="dcterms:W3CDTF">2011-08-24T06:13:42Z</dcterms:modified>
  <cp:revision>1</cp:revision>
  <dc:subject/>
  <dc:title>Short Stories</dc:title>
</cp:coreProperties>
</file>